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432-4BC4-4A38-AD38-AA1F1BCE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19B-2869-4804-A872-04BDD0E5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A64-24F5-4803-B762-936876C9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D1A-0196-4429-900F-C0F9EA32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A50-D180-4264-97AA-923D95BC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9B8-C373-4068-A730-8CE1388E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42E-47AE-4A67-8669-B398E0F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259-0008-47BF-85E5-1A9E4C5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020-06AC-4FA2-9780-8858E103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849-E080-4476-BFD9-383C68A5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B99-976D-4C47-B9A7-BEF76967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C85-C50A-4FE7-AE44-4086D2E6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7E5F-15C6-4D81-84E5-1683194AD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743200" cy="269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8153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Microscop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3429000"/>
            <a:ext cx="4800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Basic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485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rimpe 2005 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858000" cy="64072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914400" y="228600"/>
            <a:ext cx="7315200" cy="5638680"/>
            <a:chOff x="914400" y="228600"/>
            <a:chExt cx="7315200" cy="5638680"/>
          </a:xfrm>
        </p:grpSpPr>
        <p:grpSp>
          <p:nvGrpSpPr>
            <p:cNvPr id="47" name=""/>
            <p:cNvGrpSpPr/>
            <p:nvPr/>
          </p:nvGrpSpPr>
          <p:grpSpPr>
            <a:xfrm>
              <a:off x="914400" y="762120"/>
              <a:ext cx="1219320" cy="4394160"/>
              <a:chOff x="914400" y="762120"/>
              <a:chExt cx="1219320" cy="4394160"/>
            </a:xfrm>
          </p:grpSpPr>
          <p:sp>
            <p:nvSpPr>
              <p:cNvPr id="48" name=""/>
              <p:cNvSpPr/>
              <p:nvPr/>
            </p:nvSpPr>
            <p:spPr>
              <a:xfrm>
                <a:off x="1066680" y="762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66680" y="1905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9072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36576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90720" y="41148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477504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81680" y="228600"/>
              <a:ext cx="1447920" cy="5638680"/>
              <a:chOff x="6781680" y="228600"/>
              <a:chExt cx="1447920" cy="5638680"/>
            </a:xfrm>
          </p:grpSpPr>
          <p:sp>
            <p:nvSpPr>
              <p:cNvPr id="55" name=""/>
              <p:cNvSpPr/>
              <p:nvPr/>
            </p:nvSpPr>
            <p:spPr>
              <a:xfrm>
                <a:off x="7010280" y="2286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86600" y="2133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62920" y="3276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781680" y="3733920"/>
                <a:ext cx="1067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58000" y="44197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62920" y="525780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6094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400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720" y="356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960" y="467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4511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5372280"/>
            <a:ext cx="8432640" cy="1320480"/>
            <a:chOff x="228600" y="5372280"/>
            <a:chExt cx="8432640" cy="1320480"/>
          </a:xfrm>
        </p:grpSpPr>
        <p:sp>
          <p:nvSpPr>
            <p:cNvPr id="72" name=""/>
            <p:cNvSpPr/>
            <p:nvPr/>
          </p:nvSpPr>
          <p:spPr>
            <a:xfrm>
              <a:off x="228600" y="5867280"/>
              <a:ext cx="60199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ways carry a microscope with one hand holding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one hand under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61040" y="537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00040" y="4064040"/>
            <a:ext cx="3505320" cy="660240"/>
            <a:chOff x="500040" y="4064040"/>
            <a:chExt cx="3505320" cy="660240"/>
          </a:xfrm>
        </p:grpSpPr>
        <p:sp>
          <p:nvSpPr>
            <p:cNvPr id="75" name=""/>
            <p:cNvSpPr/>
            <p:nvPr/>
          </p:nvSpPr>
          <p:spPr>
            <a:xfrm>
              <a:off x="533520" y="40640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aphrag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040" y="4419720"/>
              <a:ext cx="3505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5345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my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power of magnificati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cular l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914480" cy="259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4168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14787" t="16483" r="45259" b="6929"/>
          <a:stretch/>
        </p:blipFill>
        <p:spPr>
          <a:xfrm>
            <a:off x="1676520" y="2209680"/>
            <a:ext cx="2666880" cy="382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49360" y="373392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2590920"/>
            <a:ext cx="3809880" cy="247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wers of magnification for each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s we have on our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work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ing Powers of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1066680"/>
            <a:ext cx="7620120" cy="1706400"/>
            <a:chOff x="914400" y="1066680"/>
            <a:chExt cx="7620120" cy="1706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2133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48120" y="13251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can see better details with higher the powers of magnification, but we cannot see as much of the im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040" y="3124080"/>
            <a:ext cx="8191440" cy="3143520"/>
            <a:chOff x="419040" y="3124080"/>
            <a:chExt cx="8191440" cy="314352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848040" y="3124080"/>
              <a:ext cx="476244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9040" y="3919680"/>
              <a:ext cx="3276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ich of these images would be viewed at a higher power of magnific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’s give it a tr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6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then rotate the nosepiece to click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-banded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03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a slide on the stage and secure it using the stage clips.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rs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rge knob) to get it the image into view and then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mall knob) to make it clear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654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When you are don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put up the slides you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760" y="3733920"/>
            <a:ext cx="8610480" cy="1785960"/>
            <a:chOff x="266760" y="3733920"/>
            <a:chExt cx="8610480" cy="1785960"/>
          </a:xfrm>
        </p:grpSpPr>
        <p:sp>
          <p:nvSpPr>
            <p:cNvPr id="97" name=""/>
            <p:cNvSpPr/>
            <p:nvPr/>
          </p:nvSpPr>
          <p:spPr>
            <a:xfrm>
              <a:off x="266760" y="3733920"/>
              <a:ext cx="861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Once you have the image in view, rotate the nosepiece to view it under different powers. Draw what you see on your workshee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4694400"/>
              <a:ext cx="723888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careful with the largest objective!  Sometimes there is not enough room and you will not be able to use it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52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make a wet-mount slid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Get a clean slide and coverslip from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op of water in the middle of the slide.  Don’t use too much or the water will run off the edge and make a m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Place the edge of the cover slip on one side of the water d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4572000"/>
            <a:ext cx="8534520" cy="1984320"/>
            <a:chOff x="228600" y="4572000"/>
            <a:chExt cx="8534520" cy="1984320"/>
          </a:xfrm>
        </p:grpSpPr>
        <p:sp>
          <p:nvSpPr>
            <p:cNvPr id="101" name=""/>
            <p:cNvSpPr/>
            <p:nvPr/>
          </p:nvSpPr>
          <p:spPr>
            <a:xfrm>
              <a:off x="2133720" y="5730840"/>
              <a:ext cx="510516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ou do not need to use the stage clips when viewing wet-mount slid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457200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– Place the slide on the stage and view it first with the red-banded objective. Once you see the image, you can rotate the nosepiece to view the slide with the different objectiv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2727360"/>
            <a:ext cx="8534520" cy="1616040"/>
            <a:chOff x="228600" y="2727360"/>
            <a:chExt cx="8534520" cy="1616040"/>
          </a:xfrm>
        </p:grpSpPr>
        <p:sp>
          <p:nvSpPr>
            <p:cNvPr id="104" name=""/>
            <p:cNvSpPr/>
            <p:nvPr/>
          </p:nvSpPr>
          <p:spPr>
            <a:xfrm>
              <a:off x="228600" y="272736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- Slowly lower the cover slip on top of the dro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133720" y="3352680"/>
              <a:ext cx="4572000" cy="990720"/>
              <a:chOff x="2133720" y="3352680"/>
              <a:chExt cx="4572000" cy="990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33720" y="4267080"/>
                <a:ext cx="4572000" cy="7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733920" y="3429000"/>
                <a:ext cx="83808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350496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24360" y="4190760"/>
                <a:ext cx="990720" cy="76320"/>
              </a:xfrm>
              <a:prstGeom prst="flowChartTerminator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1800" y="33526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ver Sl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76920" y="34290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wer slowl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09-23T23:27:00Z</dcterms:modified>
  <cp:revision>39</cp:revision>
  <dc:subject/>
  <dc:title>Microscope Basics</dc:title>
</cp:coreProperties>
</file>